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5A202-D52F-4427-A0CE-DE37CDD3D9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45704-B4C7-4561-B349-5BA785D3F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8592-35D5-4552-A175-E5E394C159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DE1-4AB6-4E9C-9918-8C5BA77D9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D4B-0D57-43B0-A3A5-7C9F14D2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CAC-E142-4657-A918-CACF2C47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FF8-68FE-44FD-9BD7-473A41E4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65D5-0626-4F7E-B0CF-FA012D1C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976-6FE3-48F8-98E4-A2195A93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678-CA19-44E7-8395-9DFF8F00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6212-E51E-4CA7-A2A1-46B165B4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7A5C-858E-4581-B60E-F59383B9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9B0-E70D-439A-AD10-6FE50BCF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CC78-9653-4AE5-B5C5-D7B6159B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E2A5-78EC-4DE9-ADC9-E6CEBA49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9AF-76F4-4470-8EBC-AB24E364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AC5F-BD88-470F-8E81-0F91B53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861D-9C27-4BD5-9484-953CEE16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9D0B-BD16-4B10-A69B-C0285C1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205704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29360"/>
            <a:ext cx="29199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5D1D-62B3-4964-A763-C62F8966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F47-EE7F-4E71-A324-A285BC27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1ED-A7DA-4639-9B87-E388759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DDE-888F-46BD-BC0A-91469B2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5B8-CDDE-48EB-9353-FBF25622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0A1-65D5-45E3-904A-A3DA4649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2936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5E4-EE04-401D-9B5B-CE3F14A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057040"/>
            <a:ext cx="44258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29360"/>
            <a:ext cx="906948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A38-39FC-4BF3-8870-483FCDC3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E8BED-08D5-498D-8711-3F745104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3394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994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9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C3D65-1B36-4EAC-844C-0065F0DE5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thaonline.com/bow-and-" TargetMode="External"/><Relationship Id="rId3" Type="http://schemas.openxmlformats.org/officeDocument/2006/relationships/hyperlink" Target="http://www.mrfizzix.com/archery/aero.html" TargetMode="External"/><Relationship Id="rId4" Type="http://schemas.openxmlformats.org/officeDocument/2006/relationships/hyperlink" Target="http://www.mrfizzix.com/archery/aero.html" TargetMode="External"/><Relationship Id="rId5" Type="http://schemas.openxmlformats.org/officeDocument/2006/relationships/hyperlink" Target="http://www.mrfizzix.com/archery/bow.html" TargetMode="External"/><Relationship Id="rId6" Type="http://schemas.openxmlformats.org/officeDocument/2006/relationships/hyperlink" Target="http://www.mrfizzix.com/archery/bow.html" TargetMode="External"/><Relationship Id="rId7" Type="http://schemas.openxmlformats.org/officeDocument/2006/relationships/hyperlink" Target="http://mrfizzix.com/archery/types.html" TargetMode="External"/><Relationship Id="rId8" Type="http://schemas.openxmlformats.org/officeDocument/2006/relationships/hyperlink" Target="http://mrfizzix.com/archery/types.html" TargetMode="External"/><Relationship Id="rId9" Type="http://schemas.openxmlformats.org/officeDocument/2006/relationships/hyperlink" Target="http://www.grc.nasa.gov/WWW/K-12/airplane/newton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 of Shooting a Bow and Arr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" y="2101680"/>
            <a:ext cx="90709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ohn Will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Driving Ques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really happens when a bowstring from a drawn bow is releas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B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2057400"/>
            <a:ext cx="907092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ows come in many varieties – they could be made of wood, fiberglass, or spring ste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ir main function is to store high amounts of potential energy and to release it into the nocked arrow as kinetic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Arrow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rows are typically made of wood, aluminum, or carbon fi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y are the ammunition for the 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pastimes, they had stone tips, but now they have aluminum tips that are change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bow, when pulled back, stores massive amounts of potential energy.  That potential energy is immediately converted into kinetic energy when the bowstring is released by the arc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en the kinetic energy forces the arrow forward, the arrow travels in the shape of a parabola.  This is because the force of gravity is working against the force of the arrow, just like everything else it works again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Physic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51200"/>
            <a:ext cx="906948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ir works as a liquid to an arrow.  This means that air creates drag for the arrow.  Drag is a force that prevents something from moving; similar to fri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Newton’s Laws of Motio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very object persists in its state of rest or uniform motion in a straight line unless it is compelled to change by forces impressed on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ce is equal to change in momentum (mV) per change in time.  For a constant mass, force equals mass times acceleration. F=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r every action, there is an equal and opposite re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ta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2057040"/>
            <a:ext cx="906948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Bow and Arrow - a History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Bow Hunting (bowhunting) &amp; Bow Fishing (bowfishing) from ATHA Online Texa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</a:t>
            </a:r>
            <a:br>
              <a:rPr sz="2000"/>
            </a:b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thaonline.com/bow-and-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row.html&gt;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Arrow Flight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mrfizzix.com/archery/aero.htm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gt;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The Bow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mrfizzix.com/archery/bow.htm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&gt;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The Bow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Physics Mr. Fizzix Mr. Physics High School Physics of Project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Web. 10 May 2010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mrfizzix.com/archery/types.htm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gt;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"Newton's Laws of Motion."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NASA - Title...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Web. 13 May 2010.</a:t>
            </a:r>
            <a:br>
              <a:rPr sz="20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grc.nasa.gov/WWW/K-12/airplane/newton.htm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7:27:24Z</dcterms:created>
  <dc:creator>John Willis</dc:creator>
  <dc:description/>
  <dc:language>en-US</dc:language>
  <cp:lastModifiedBy> </cp:lastModifiedBy>
  <dcterms:modified xsi:type="dcterms:W3CDTF">2010-05-14T01:33:14Z</dcterms:modified>
  <cp:revision>12</cp:revision>
  <dc:subject/>
  <dc:title>Physics of Shooting a Bow and Arrow</dc:title>
</cp:coreProperties>
</file>